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968-860A-4F07-AEFB-19EB2C1C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2EF-41FC-439B-AA94-9D5DCA3A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F1B-4643-4B55-9B11-03BF87CC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009-CCD8-41B2-8B11-075B0555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212-99B8-4473-A18C-8E20F0EC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C70-9B93-4C38-A6B6-0A9CACBD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01E-C7B1-4C40-AA7F-74347BA0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FAC-C110-4B73-9F92-103EFF8A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FE3-47A1-44EB-B77C-F5976F1C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144-DF23-4F9E-90BD-4C81D62E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7A3-2A53-486C-8660-66187521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C54-73E4-431D-B0A0-0D0973F6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C6CE-F1C1-459B-9F42-5C1A4B93D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-3   Strengths of Acids and 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609480" y="1523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Acids:  completely ionize in aqueous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914400" y="9907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classify acids and bases as strong or weak depending on 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hey ionize in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990720" y="1905120"/>
            <a:ext cx="723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:  HCl(g)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q) + C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q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600200" y="22860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Why? Because all the reactants make new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85800" y="33526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ak acids:  ionize only slightly in aq.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914400" y="3733920"/>
            <a:ext cx="75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H(aq)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q)    +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1371600" y="403848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thanoic acid            Water     Hydronium ion       Ethonate 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1828800" y="43434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Why? Ionization of the Ethanoic acid not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295280" y="2666880"/>
            <a:ext cx="7162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very high because acid completely dissociates in water.(figure 19.16 p. 6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2133720" y="4648320"/>
            <a:ext cx="5638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very low because the acid for the most part doesn’t dissociate. (figure 19.16 p.6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id dissociation constant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:  the ratio of the concentration of the dissociated form of an acid to the concentration of the undissociated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838080" y="1523880"/>
            <a:ext cx="746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The stronger the acid, the larger the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143000" y="19051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tells how much has dissociated or ion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57200" y="22860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bases: dissociate completely into metal ions and hydroxide ion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eou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990720" y="28195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 calcium hydrox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57200" y="32004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 bases:  react with water to form the hydroxide ion and the conju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id of the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1066680" y="3886200"/>
            <a:ext cx="75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q)    +   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(l)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q)     +     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1371600" y="4267080"/>
            <a:ext cx="72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monia              water                ammonium ion       Hydroxide 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609480" y="4572000"/>
            <a:ext cx="8001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dissociation constant (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  ratio of the conjugate acid time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of the hydroxide ion to the concentration of the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the smaller th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 weaker the b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457200" y="11430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vs. Strength – the battle continu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838080" y="160020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ARE NOT, I REPEAT, ARE NOT THE SA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838080" y="1981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Concentrated (and dilute) tell how much of an acid or base is dissolv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lution (number of mols of the acid/base in a given volu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914400" y="2666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Strong and weak refer to the extent dissociation or ionization. (indicates how many particles ionize or dissociate into 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2:39:20Z</dcterms:created>
  <dc:creator>John Pakledinaz</dc:creator>
  <dc:description/>
  <dc:language>en-US</dc:language>
  <cp:lastModifiedBy>Farwell Area Schools</cp:lastModifiedBy>
  <dcterms:modified xsi:type="dcterms:W3CDTF">2009-02-11T13:59:14Z</dcterms:modified>
  <cp:revision>13</cp:revision>
  <dc:subject/>
  <dc:title>10-3   Strengths of Acids and Bases</dc:title>
</cp:coreProperties>
</file>